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2541-B951-4649-BD21-A653A4295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F29B-2ACC-4966-A286-BD723B3D5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1B94-285D-4C7A-BCFE-6FBB3BD78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44D7-3988-4B42-B538-40C04FD2A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727A7-3325-40DA-8D92-49FB0CC6B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18416-5EE1-4F96-9CF2-8BA2A530F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D2CDE-6BFB-421C-AF9B-775C2C6E0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49AC2-36E0-4D08-AD7A-64AD4DBDA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98B50-F8BA-4519-8DAD-D2C136FFF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46DF1-ADF8-4365-8657-06EEBA993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FC67E-1E01-4004-9BEB-15CDC996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76C3-F265-484C-B0A6-D3F974437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EF2B0-9DB8-4E7A-8467-117F0518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8C269-CF7D-4F2B-B3A0-DBC154EB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FD9A5-D2FA-4CA8-9FDC-B8F79C97B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9D194-8CC6-445C-8BA0-981D1F5EB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F06C0-F710-4A6F-8B54-588E550AC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423A-E7F3-48B3-8CE1-E1F6FEA83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4B45-507C-4ABF-BBD9-0E65BBF87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2F9C-EDA0-499B-8D82-5B066AED6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8CDB-0723-4FEB-8950-B752FDDA7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7AFF-A114-4230-B82E-89046C0B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F01B-4D03-4451-8733-E83BBA38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8EE6-8D57-4736-953A-2735175A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3A42D-F4F0-4D39-B9B6-A48B99C9C7B0}" type="slidenum">
              <a:rPr b="0" lang="en-A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D5361-A508-4C2E-91E8-FEC9EE0AD116}" type="slidenum">
              <a:rPr b="0" lang="en-A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ameron Gibso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wimm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484360" y="4648320"/>
            <a:ext cx="39243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Profi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Full name: Cameron Micheal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Age: 29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DOB: 14 August 198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Born in: Auckland New Zealan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Height:6’6’’ (199 c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Weight:181 lbs (82 kg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724360" y="3832200"/>
            <a:ext cx="302580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Family and hist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Mother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Father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Siblings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Where they grew up: Engla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Do they have a job other than their sport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643280" y="2492280"/>
            <a:ext cx="355608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Sporting pa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Past Olympics: Beijing 2008,Commonwealth gam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Awards won: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How old were they when they started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Have they had to overcome any problems to get where they are now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562720" y="2451240"/>
            <a:ext cx="2754360" cy="33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Being the best they can b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What do they have to do to be as good as they are?</a:t>
            </a:r>
            <a:br>
              <a:rPr sz="2800"/>
            </a:b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(Training, food, lifestyle…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Healthy food train everyda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356000" y="2602080"/>
            <a:ext cx="4392720" cy="34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hy this athlet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Verdana"/>
              </a:rPr>
              <a:t>Explain here why you have chosen this athlete. What do you like about them? How have they inspired you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Verdana"/>
              </a:rPr>
              <a:t>I have chosen swimming is a good sport is and Cameron Gibson has a Great personali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219640" y="2577960"/>
            <a:ext cx="1876320" cy="16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6T10:13:15Z</dcterms:created>
  <dc:creator>Miriam Laidlaw</dc:creator>
  <dc:description/>
  <dc:language>en-US</dc:language>
  <cp:lastModifiedBy>Administrator</cp:lastModifiedBy>
  <dcterms:modified xsi:type="dcterms:W3CDTF">2008-09-25T02:34:05Z</dcterms:modified>
  <cp:revision>5</cp:revision>
  <dc:subject/>
  <dc:title>Name of Athlete</dc:title>
</cp:coreProperties>
</file>